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517E1-396A-4713-B0A5-A94E46FB2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A2CCD-028A-400C-8FE6-F38ECF586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DBFE8-2D67-4FD8-8B97-B53025764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9293A-F115-4971-A115-8904C37D4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0A5F2-345A-44F2-B7E3-AD56F6C91B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1F7B6-9E3A-4AF0-90D2-D304C6647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AF1B8-0CCC-4E02-B326-168B5F2605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7427-5FBB-40CB-BD31-BC43A6E86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14CE-F058-4412-BB3C-81ED26D1C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EC9A-1DF2-470A-BDB6-3C806ED1A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BC27-D6F6-44D6-A2A5-7FF2F3C1F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6395-AD1B-4916-817C-31F05C729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C96C-13E3-4934-BD87-BAF3604DD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5B55-8663-4519-BBDA-1077C15BF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FFCE-7063-4B47-BD55-9332ADAED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0A09-4458-4E1A-BC1F-B0AFEE8F1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1086-075D-43C1-8E10-461121AF4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10D3-718D-4901-B308-FC853643F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D0A8-2493-4F56-B157-CD8A4222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6F65A-4972-4E82-B94E-01AD752CC5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284360" y="5589720"/>
            <a:ext cx="4529160" cy="103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роф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. др Владимир Живкови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2280600" y="1197000"/>
            <a:ext cx="44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Интегрисане академске студије фарма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2268360" y="1773360"/>
            <a:ext cx="46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ОДУЛ 1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СНОВИ СПОРТСКЕ ФАРМАЦИЈЕ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324000" y="2924280"/>
            <a:ext cx="8281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. наставна јединица (трећа недеља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ФАРМАЦЕУТИ У СПОРТУ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835280" y="333360"/>
            <a:ext cx="532908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оступци у раду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антидопинг лабораторије -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8360" y="2060280"/>
            <a:ext cx="83628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оступак избора спортисте и сакупљања узорака строго су контролисани од стране одговорне антидопинг организац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За тестирање током такмичења спортисти се бирају на основу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- пласмана на такмичењ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- насумиц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- циљан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За тестирање изван такмичења спортисти се мора најавити узимање узорака за тестирањ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вака национална антидопинг агенција је у обавези да припреми </a:t>
            </a:r>
            <a:r>
              <a:rPr b="0" i="1" lang="sr-RS" sz="2000" spc="-1" strike="noStrike">
                <a:solidFill>
                  <a:srgbClr val="000000"/>
                </a:solidFill>
                <a:latin typeface="Calibri"/>
              </a:rPr>
              <a:t>листу врхунских спортиста за тестирањ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оступци у раду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антидопинг лабораторије -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8360" y="2060280"/>
            <a:ext cx="83628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Узимање узорака као и даља процедура транспорта, анализе и припреме извештаја се спроводе по строго дефинисаном протокол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Транспорт узорака до лабораторије се мора обавити у што краћем року и то тако да се обезбеде интегритет, идентитет и безбедност узора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У случају позитивног резултата потребно је да две особе независно једна од друге понове анализу пре писања извештаја и обавештавања надлежне антидопинг агенц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Антидопинг агенција обавештава спортисту о резултату тес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Улога аналитике лекова у допинг контрол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8360" y="2060280"/>
            <a:ext cx="83628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Једна од основних улоге аналитике лекова у допинг контроли је развој метода које ће омогућити добијање прецизног и тачног резултата из узорка који се анализир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оузданост резултата је у директној вези са примењеном инструменталном методом и зависи од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добро познавање природе анали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познавање матрикса који се анализир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искуство у примени метод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Отежавајући фактор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често се ради о анализи трагова супстанц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неке од супстанци које се злоупотребљавају се физиолошки налазе у организму (пример: 19-нортестостерон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оступци аналитике лекова у допинг контроли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- осетљивост 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8360" y="1844280"/>
            <a:ext cx="83628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оступак који се користи у откривању допинг средства мора да буде високо селективан и осетљив услед следећих разлог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зорци који се анализирају (крв и урин) су сложеног саста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нализиране супстанце су различитих физичко-хемијских особи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апремине узорака су ограничен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нализа се мора урадити у веома кратком временском периоду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(у року од 24 до 48 сат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5" descr="Ð¡ÑÐ¾Ð´Ð½Ð° ÑÐ»Ð¸ÐºÐ°"/>
          <p:cNvPicPr/>
          <p:nvPr/>
        </p:nvPicPr>
        <p:blipFill>
          <a:blip r:embed="rId1"/>
          <a:stretch/>
        </p:blipFill>
        <p:spPr>
          <a:xfrm>
            <a:off x="3924360" y="4508640"/>
            <a:ext cx="309708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оступци аналитике лекова у допинг контроли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- фазе 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68360" y="2060280"/>
            <a:ext cx="83628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рема препоруци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WADA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поступак у антидопинг лабораторији се изводе у 2 фазе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WADA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sr-RS" sz="2000" spc="-1" strike="noStrike" u="sng">
                <a:solidFill>
                  <a:srgbClr val="000000"/>
                </a:solidFill>
                <a:uFillTx/>
                <a:latin typeface="Calibri"/>
              </a:rPr>
              <a:t>фаза: скрининг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– детекција највећег броја тражених супстанци у сложеном матриксу (урину / крв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- Одлик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- ургентнос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- селективност и осетљивос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- одсуство лажно негативних резулта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- минимум присуства лажно поитивних резултата (до 10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- Ова фаза обезбеђује информацију о присуству/одсуству допинг средс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оступци аналитике лекова у допинг контроли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- фазе 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8360" y="2060280"/>
            <a:ext cx="83628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sr-RS" sz="2000" spc="-1" strike="noStrike" u="sng">
                <a:solidFill>
                  <a:srgbClr val="000000"/>
                </a:solidFill>
                <a:uFillTx/>
                <a:latin typeface="Calibri"/>
              </a:rPr>
              <a:t>фаза: одређивање садржаја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рисутног допинг средс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амо одређене супстанце са Листе забрањених супстанци захтевају одређивање </a:t>
            </a:r>
            <a:r>
              <a:rPr b="0" i="1" lang="sr-RS" sz="2000" spc="-1" strike="noStrike">
                <a:solidFill>
                  <a:srgbClr val="000000"/>
                </a:solidFill>
                <a:latin typeface="Calibri"/>
              </a:rPr>
              <a:t>(сматрају се допинг средством само када открију изнад одређене концентрације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sr-RS" sz="2000" spc="-1" strike="noStrike">
                <a:solidFill>
                  <a:srgbClr val="000000"/>
                </a:solidFill>
                <a:latin typeface="Calibri"/>
              </a:rPr>
              <a:t>- салбутамол, формотерол (бронходилататор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sr-RS" sz="2000" spc="-1" strike="noStrike">
                <a:solidFill>
                  <a:srgbClr val="000000"/>
                </a:solidFill>
                <a:latin typeface="Calibri"/>
              </a:rPr>
              <a:t>- ефедрин, метилефедрин, псеудоефедрин и катин (психостимуланс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Квантитативна анализа је потребна и онда када је висок ниво ендогених супстанци (нпр.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естостерона и његових прекурсора и метаболит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рипрема узорака за откривање допинг средст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50920" y="2060280"/>
            <a:ext cx="83628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рипрема узорака подразумева употребу метода чији је циљ да се из сложеног биолошког матрикса издвоји пречишћен анали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Најчешће метод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- течно-течна екстракција (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Liquid Liquid Extraction, LLE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- чврсто-течна екстракција (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Solid Phase Extraction, SPE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- преципитација протеин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(Protein Precipitation, PP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5" descr="Ð ÐµÐ·ÑÐ»ÑÐ°Ñ ÑÐ»Ð¸ÐºÐ° Ð·Ð° Liquid Liquid Extraction, LLE"/>
          <p:cNvPicPr/>
          <p:nvPr/>
        </p:nvPicPr>
        <p:blipFill>
          <a:blip r:embed="rId1"/>
          <a:srcRect l="62808" t="20522" r="7577" b="11614"/>
          <a:stretch/>
        </p:blipFill>
        <p:spPr>
          <a:xfrm>
            <a:off x="6732720" y="3068640"/>
            <a:ext cx="18000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Методе за идентификацију допинг средст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8360" y="1412640"/>
            <a:ext cx="8362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гас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хроматографиј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прегнут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асено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пектрометријо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Gas</a:t>
            </a:r>
            <a:r>
              <a:rPr b="0" i="1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hromatography Mass Spectrometry – GC/M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течна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хроматографија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спрегнута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i="1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асено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пектрометријо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Liquid Chromatography Mass Spectrometry –</a:t>
            </a:r>
            <a:r>
              <a:rPr b="0" i="1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LC/M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мунолошке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етоде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нализа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отеина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епти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имењен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етоде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реб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могућ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исуств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еликог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број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упстанц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етаболит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биолошких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аркер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дентифику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исуств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упстанц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брањен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порт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Ð ÐµÐ·ÑÐ»ÑÐ°Ñ ÑÐ»Ð¸ÐºÐ° Ð·Ð° gas chromatography mass spectrometry"/>
          <p:cNvPicPr/>
          <p:nvPr/>
        </p:nvPicPr>
        <p:blipFill>
          <a:blip r:embed="rId1"/>
          <a:srcRect l="0" t="5408" r="0" b="0"/>
          <a:stretch/>
        </p:blipFill>
        <p:spPr>
          <a:xfrm>
            <a:off x="4500720" y="4410000"/>
            <a:ext cx="3854160" cy="2448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Ð ÐµÐ·ÑÐ»ÑÐ°Ñ ÑÐ»Ð¸ÐºÐ° Ð·Ð° gas chromatography mass spectrometry"/>
          <p:cNvPicPr/>
          <p:nvPr/>
        </p:nvPicPr>
        <p:blipFill>
          <a:blip r:embed="rId2"/>
          <a:stretch/>
        </p:blipFill>
        <p:spPr>
          <a:xfrm>
            <a:off x="1619280" y="4676760"/>
            <a:ext cx="278460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Методе за идентификацију допинг средства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- могући исходи 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8360" y="2276640"/>
            <a:ext cx="83628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ем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ступк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едлаж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Latn-RS" sz="2000" spc="-1" strike="noStrike">
                <a:solidFill>
                  <a:srgbClr val="000000"/>
                </a:solidFill>
                <a:latin typeface="Calibri"/>
              </a:rPr>
              <a:t>WADA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фаз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идентификације узорка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звод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узорку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лучају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егативног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езултат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и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дентификован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исуств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упстанц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брањен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порт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здаје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звешта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лучај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ејасног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езултат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циљ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азјашњавањ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езултат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ново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ад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нализ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сто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зорк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лучај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тврд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исуств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упстанц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брањен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порт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елаз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ледећу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фазу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јој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рш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вантитативн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нализ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јом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дређује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нцентрациј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исутн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упстанце (фаза 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в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фаз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ад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зорк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имењује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етод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пецифич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дентификован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упстанц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авил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етекциј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дентификациј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тврд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исуств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едозвољен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упстанц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8360" y="2060640"/>
            <a:ext cx="83628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циљ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збегавањ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грешак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обијањ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епродуктивних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езултат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Latn-RS" sz="2000" spc="-1" strike="noStrike">
                <a:solidFill>
                  <a:srgbClr val="000000"/>
                </a:solidFill>
                <a:latin typeface="Calibri"/>
              </a:rPr>
              <a:t>WADA 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ефинисал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инималн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хтев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тандард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вака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кредитована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нтидопинг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лабораторија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ора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спуни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имер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- д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б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дентификациј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налит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бил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узда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нпр.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именом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ЛЦ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етоде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етенционо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реме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налита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зорку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рина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портисте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ме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азликовати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ише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2 %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ј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. ± 0,1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инут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дносу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етенционо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реме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сте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упстанце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птерећено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зорк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ри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днос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 референтн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тандар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з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ог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азлог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ве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лабораторије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орају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ати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саглашене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езултате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ати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рло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асни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ритеријум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имењен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етод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н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писан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Техничком</a:t>
            </a:r>
            <a:r>
              <a:rPr b="0" i="1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документу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ОРТСКО-МЕДИЦИНСКИ ТИМ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8360" y="1844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ланови спортско-медицинског тим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портски л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екар (специјалиста спортске медицине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0000"/>
                </a:solidFill>
                <a:latin typeface="Calibri"/>
              </a:rPr>
              <a:t>фармацеу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ф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изиотерапеу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ијететичар/нутриционис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ренер (спортске тактике и вештине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ондициони трене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ортис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Удружени и усаглашени рад свих чланова спортско-медицинског тима је неопходан за постизање најбољих резултата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налитик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ијететских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уплемена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8360" y="1916280"/>
            <a:ext cx="83628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ијететск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уплемент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ог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бити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нтаминирани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упстанцама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је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ису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озвољене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порт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нтаминације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оже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оћи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следиц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накрсн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нтаминациј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епарат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лош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безбеђеног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ранспорт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ировина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зраду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ијететских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уплемена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Calibri"/>
              </a:rPr>
              <a:t>Пример</a:t>
            </a:r>
            <a:r>
              <a:rPr b="0" lang="sr-RS" sz="20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емачком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шпанско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ржишт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у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ек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уплемент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адрж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ит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Ц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алцију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бил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нтаминирани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наболико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етадиеноно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ок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ултивитаминск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мплекс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агнезију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били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нтаминиран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наболико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танозолол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исуств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наболик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ијететски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уплементим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ож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овест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зитивних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езултат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опинг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нтрол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Лист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абрањених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упстанц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1413000"/>
            <a:ext cx="83628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WADA je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описала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Листу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брањених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упстанци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брањених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ето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20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ритеријум</a:t>
            </a:r>
            <a:r>
              <a:rPr b="0" i="1" lang="sr-R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којима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супстанца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ставља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i="1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Листу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забрањених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супстанци</a:t>
            </a:r>
            <a:r>
              <a:rPr b="0" i="1" lang="sr-R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огућност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упстанц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бољш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портск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езултат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тварни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тенцијални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изик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дравље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портисте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рушавањ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портског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ух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Уколико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два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ова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три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критеријума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испуњена</a:t>
            </a:r>
            <a:r>
              <a:rPr b="0" i="1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супстанца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ставља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Листу</a:t>
            </a:r>
            <a:r>
              <a:rPr b="0" i="1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забрањених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супстанц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Примери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наболици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естостерон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наболичко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ндрогени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тероиди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р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)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ептидн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хормон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еритропоетин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хормон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аст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нсулин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р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),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сих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тимуланас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мфетамин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ефедрин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каин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р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)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иуретиц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ркотиц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анабиноиди, глукокортикоид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 д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лог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фармацеут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акупљањ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зора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8360" y="1700280"/>
            <a:ext cx="83628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едстављ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едан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ритичних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рак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оком допинг контрол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ступак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акупљањ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зорак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ложен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астој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з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иш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фаз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збор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портис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бавештавањ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портист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нтрол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акупљањ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зорак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значавај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зорак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црвена</a:t>
            </a:r>
            <a:r>
              <a:rPr b="0" lang="sv-S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етикета</a:t>
            </a:r>
            <a:r>
              <a:rPr b="0" lang="sv-S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v-S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зорак</a:t>
            </a:r>
            <a:r>
              <a:rPr b="0" lang="sv-S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sv-SE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лава</a:t>
            </a:r>
            <a:r>
              <a:rPr b="0" lang="sv-S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етикета</a:t>
            </a:r>
            <a:r>
              <a:rPr b="0" lang="sv-SE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ранспорт</a:t>
            </a:r>
            <a:r>
              <a:rPr b="0" lang="sv-S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зора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ипрем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окументац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Фармацеут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ог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оћ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дговарајућ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бук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ренинг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им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тећ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мпетентност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чествуј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екој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д фаз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во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ступк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сто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епорук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фармацеут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чествуј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фаз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азвој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мплементације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оцедура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акупљање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зор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5" descr="Ð¡ÑÐ¾Ð´Ð½Ð° ÑÐ»Ð¸ÐºÐ°"/>
          <p:cNvPicPr/>
          <p:nvPr/>
        </p:nvPicPr>
        <p:blipFill>
          <a:blip r:embed="rId1"/>
          <a:stretch/>
        </p:blipFill>
        <p:spPr>
          <a:xfrm>
            <a:off x="4643280" y="3500280"/>
            <a:ext cx="216216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64072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епоруке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лози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фармацеута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борби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отив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опинга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порту</a:t>
            </a:r>
            <a:br>
              <a:rPr sz="2400"/>
            </a:br>
            <a:r>
              <a:rPr b="0" i="1" lang="sr-CS" sz="2400" spc="-1" strike="noStrike">
                <a:solidFill>
                  <a:srgbClr val="000000"/>
                </a:solidFill>
                <a:latin typeface="Calibri"/>
              </a:rPr>
              <a:t>(Каиро, 200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8360" y="1628280"/>
            <a:ext cx="836280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 u="sng">
                <a:solidFill>
                  <a:srgbClr val="000000"/>
                </a:solidFill>
                <a:uFillTx/>
                <a:latin typeface="Calibri"/>
              </a:rPr>
              <a:t>ДУЖНОСТИ ДРЖАВ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едуз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имањ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ефикасних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ер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ак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б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ткрил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пречил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легалн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набдевање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лековим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ек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фитнес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лубов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кључујућ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бавк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уте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нтернет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рист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бољшањ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портских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езулта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безбеђивањ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дговарајуће финансијске помоћи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WADA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сигурају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њену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длежност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езависност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портских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рушта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еко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езависних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ционалних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нтидопинг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генциј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ристећи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слуге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лабораториј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кредитованих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тране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ОК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-а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естирањ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брањених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леков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сигуравањ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трог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имен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кон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тим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оцедуру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нтрол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етод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нализ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саглашен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еђународном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иво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6421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епоруке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лози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фармацеута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борби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отив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опинга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порту</a:t>
            </a:r>
            <a:br>
              <a:rPr sz="2400"/>
            </a:br>
            <a:r>
              <a:rPr b="0" i="1" lang="sr-CS" sz="2400" spc="-1" strike="noStrike">
                <a:solidFill>
                  <a:srgbClr val="000000"/>
                </a:solidFill>
                <a:latin typeface="Calibri"/>
              </a:rPr>
              <a:t>(Каиро, 200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95280" y="1413000"/>
            <a:ext cx="83628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 u="sng">
                <a:solidFill>
                  <a:srgbClr val="000000"/>
                </a:solidFill>
                <a:uFillTx/>
                <a:latin typeface="Calibri"/>
              </a:rPr>
              <a:t>ДУЖНОСТИ ФАРМАЦЕУТСКИХ ДРУШТАВ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хтевање од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ционалних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портских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авез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во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портист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ристе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лекове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бавежу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бавесте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фармацеута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вом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чествовању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портским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т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кмичењи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чествовање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ампањама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једно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ционалним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нтидопинг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генцијама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ционални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лимпијски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митетим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дговарајући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ладини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дељењим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дизању свест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портист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пасностим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опинг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набдевањ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фармацеут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едукативни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атеријалим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мењеним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портистима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пасностима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следицама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опинг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безбеђивањ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да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сновн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нтинуиран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бразовањ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фармацеут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кључује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нформације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упстанцама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етодама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је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ристе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опинг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порту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изицим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дрављ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портис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безбеђивањ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атеријал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нтинуирано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бразовање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фармацеута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адржи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нформаци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Кодексу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Светске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антидопинг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агенц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86421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епоруке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лози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фармацеута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борби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отив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опинга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порту</a:t>
            </a:r>
            <a:br>
              <a:rPr sz="2400"/>
            </a:br>
            <a:r>
              <a:rPr b="0" i="1" lang="sr-CS" sz="2400" spc="-1" strike="noStrike">
                <a:solidFill>
                  <a:srgbClr val="000000"/>
                </a:solidFill>
                <a:latin typeface="Calibri"/>
              </a:rPr>
              <a:t>(Каиро, 200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4000" y="1699920"/>
            <a:ext cx="8362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 u="sng">
                <a:solidFill>
                  <a:srgbClr val="000000"/>
                </a:solidFill>
                <a:uFillTx/>
                <a:latin typeface="Calibri"/>
              </a:rPr>
              <a:t>ДУЖНОСТИ ФАРМАЦЕУТ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журно праћење садржај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Кодекса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Светске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антидопинг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агенције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Листе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допинг</a:t>
            </a:r>
            <a:r>
              <a:rPr b="0" i="1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средста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омовисање позитивних ефеката спорта на здрављ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кључујућ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чешћ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портским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ктивностима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собе са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дређеним медицинским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облеми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презност 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разликовање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правдан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потреб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лек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едозвољен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дбијање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набдевања леко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к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ас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мера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ћ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ристит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езаконит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бољшањ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портских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езулта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бавештавање такмичар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лековим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адрж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ек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упстанц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Листе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забрањених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супстанц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бавештавањ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них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бав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портски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ктивностим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ристим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ијететских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уплеменат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огући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изицим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ез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њиховом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потреб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166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ХВАЛА НА ПАЖЊИ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ОРТСКО-МЕДИЦИНСКИ ТИМ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8360" y="155700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лога фармацеу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У савременом спорту, последњих година је све уочљивији значај фармацеута у спортско-медицинском тим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лога фармацеут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вођење и контрола фармаколошке терапије спортис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контрола и примена суплемената код спортист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фармаколошке мере превенције повре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заштита спортиста од злоупотребе лекова и лековитих супстанц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мере антидопинг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данас највећи број ових дужности обавља лека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авремени концепт фармацеута у спорт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8360" y="1988640"/>
            <a:ext cx="83628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аветодавна и едукативна у превенцији допинг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Рад у контролним лабораторија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авилно дизајнирање дијет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имена леко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набдевање лекови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аћење и анализа утицаја лекова на биохемијске и хематолошке параметер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324000" y="5516640"/>
            <a:ext cx="835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*Рад у контролним лабораторијама: анализа материјала – сакупљањ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чување и припрема узорака, скрининг тестови, методе за квантитативну и квалитативну анализ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начај фармацеута у савременом спорт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8360" y="1916280"/>
            <a:ext cx="83628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начај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фармацеут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тврђен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ктивностим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квиру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Светске</a:t>
            </a:r>
            <a:r>
              <a:rPr b="0" i="1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антидопинг</a:t>
            </a:r>
            <a:r>
              <a:rPr b="0" i="1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агенције</a:t>
            </a:r>
            <a:r>
              <a:rPr b="0" i="1" lang="vi-VN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астој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едукациј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портист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роз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авањ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јновијих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нформациј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лековим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Листе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забрањених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супстанци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путем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Global DRO (eng. Global Drug Reference On Lin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имер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апан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гд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стварен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арадњ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змеђу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апанск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нтидопинг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генциј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апанског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фармацеутског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руштв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2009.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годин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в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арадњ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спостављен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ако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би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ешио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обле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ен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ерног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опинг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опинг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з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в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еп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жњом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“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 u="sng">
                <a:solidFill>
                  <a:srgbClr val="000000"/>
                </a:solidFill>
                <a:uFillTx/>
                <a:latin typeface="Calibri"/>
              </a:rPr>
              <a:t>„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Calibri"/>
              </a:rPr>
              <a:t>допинг</a:t>
            </a:r>
            <a:r>
              <a:rPr b="0" lang="vi-VN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Calibri"/>
              </a:rPr>
              <a:t>из</a:t>
            </a:r>
            <a:r>
              <a:rPr b="0" lang="vi-VN" sz="20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Calibri"/>
              </a:rPr>
              <a:t>зв</a:t>
            </a:r>
            <a:r>
              <a:rPr b="0" lang="vi-VN" sz="20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Calibri"/>
              </a:rPr>
              <a:t>н</a:t>
            </a:r>
            <a:r>
              <a:rPr b="0" lang="vi-VN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Calibri"/>
              </a:rPr>
              <a:t>неп</a:t>
            </a:r>
            <a:r>
              <a:rPr b="0" lang="vi-VN" sz="20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Calibri"/>
              </a:rPr>
              <a:t>жњом</a:t>
            </a:r>
            <a:r>
              <a:rPr b="0" lang="vi-VN" sz="2000" spc="-1" strike="noStrike" u="sng">
                <a:solidFill>
                  <a:srgbClr val="000000"/>
                </a:solidFill>
                <a:uFillTx/>
                <a:latin typeface="Calibri"/>
              </a:rPr>
              <a:t>“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ришћењем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леков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здају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без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ецепт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енергетских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питак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ог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ати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зитивну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еакцију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брањен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упстанц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Улога фармацеута у суплементацији спортис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8360" y="1988640"/>
            <a:ext cx="83628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ознавање начина (рационалне) примене различитих група суплемената код спортис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ознавање ефеката примене појединачних суплемената на организам спортис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Разумевање механизама путем којих суплементи делује на органске систем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ознававање нежељених дејстава суплемена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ознавање здравствених ризика од употребе коришћења суплемена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Анализа дијететских суплемената на присуство забрањених супстанци*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* </a:t>
            </a:r>
            <a:r>
              <a:rPr b="0" i="1" lang="sr-CS" sz="1800" spc="-1" strike="noStrike" u="sng">
                <a:solidFill>
                  <a:srgbClr val="000000"/>
                </a:solidFill>
                <a:uFillTx/>
                <a:latin typeface="Calibri"/>
              </a:rPr>
              <a:t>О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тклањање опасности од ненамерног допинг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Улога фармацеута у антидопинг контрол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628280"/>
            <a:ext cx="83628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Анализа дијететских суплемената на присуство забрањених супстанц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раћење и коришћење лекова у спорту (забрањене и дозвољене супстанце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ознавање законске регулативе у области допинг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ознавање поступака антидопинг контрол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ознавање мера сузбијања и превенције допинг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Едукација спортиста (и рекреативаца) о употреби и злоупотреби лекова и лековити супстанц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Рад у антидопинг лабораторијама и агенцијама (познавање најновијих техника за откривање забрањених супстанци у спорту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" descr="Ð ÐµÐ·ÑÐ»ÑÐ°Ñ ÑÐ»Ð¸ÐºÐ° Ð·Ð° antidoping kontrola"/>
          <p:cNvPicPr/>
          <p:nvPr/>
        </p:nvPicPr>
        <p:blipFill>
          <a:blip r:embed="rId1"/>
          <a:srcRect l="25704" t="58161" r="29696" b="2714"/>
          <a:stretch/>
        </p:blipFill>
        <p:spPr>
          <a:xfrm>
            <a:off x="3059280" y="5251320"/>
            <a:ext cx="338436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роцес допинг контрол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8360" y="1773360"/>
            <a:ext cx="8362800" cy="37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роцес допинг контроле подразумева следеће главне корак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ланирање тестирања и дистрибуција плана тестирањ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рикупљање узорака, рад са узорцима и лабораторијска анализа узора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Разматрање изузетака услед примене супстанци у терапијске сврх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рипремање извештаја о резултатима лабораторијских испитивањ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аслушавање спортис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Анализа жалб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Ð¡ÑÐ¾Ð´Ð½Ð° ÑÐ»Ð¸ÐºÐ°"/>
          <p:cNvPicPr/>
          <p:nvPr/>
        </p:nvPicPr>
        <p:blipFill>
          <a:blip r:embed="rId1"/>
          <a:stretch/>
        </p:blipFill>
        <p:spPr>
          <a:xfrm>
            <a:off x="3348000" y="4365720"/>
            <a:ext cx="369900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Функционисање антидопинг лаборатор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2060280"/>
            <a:ext cx="83628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Антидопинг лабораторије служе за анализирање прикупљених биолошких узорака спортиста (на присуство недозвољених супстанци) и тумачење добијених резултат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Морају бити акредитоване од стране </a:t>
            </a:r>
            <a:r>
              <a:rPr b="0" i="1" lang="sr-Latn-RS" sz="2000" spc="-1" strike="noStrike">
                <a:solidFill>
                  <a:srgbClr val="000000"/>
                </a:solidFill>
                <a:latin typeface="Calibri"/>
              </a:rPr>
              <a:t>World Antidoping Agency – WA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рименом одговарајућих инструменталних метода обезбеђују доказе да је код спортисте откривено присуство забрањене супстанце или њеног метаболита или маркера </a:t>
            </a:r>
            <a:r>
              <a:rPr b="0" i="1" lang="sr-RS" sz="2000" spc="-1" strike="noStrike">
                <a:solidFill>
                  <a:srgbClr val="000000"/>
                </a:solidFill>
                <a:latin typeface="Calibri"/>
              </a:rPr>
              <a:t>(у урину или другим биолошким течностима откривена забрањена супстанца у концентрацији већој од дозвољене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Лабораторије морају спровести допинг контролу у складу са </a:t>
            </a:r>
            <a:r>
              <a:rPr b="0" i="1" lang="sr-RS" sz="2000" spc="-1" strike="noStrike">
                <a:solidFill>
                  <a:srgbClr val="000000"/>
                </a:solidFill>
                <a:latin typeface="Calibri"/>
              </a:rPr>
              <a:t>Интернационалним стандрардом за лабораторије (</a:t>
            </a:r>
            <a:r>
              <a:rPr b="0" i="1" lang="sr-Latn-RS" sz="2000" spc="-1" strike="noStrike">
                <a:solidFill>
                  <a:srgbClr val="000000"/>
                </a:solidFill>
                <a:latin typeface="Calibri"/>
              </a:rPr>
              <a:t>International Standard for Laboratori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07T06:32:31Z</dcterms:created>
  <dc:creator>Ivan Srejovic</dc:creator>
  <dc:description/>
  <dc:language>en-US</dc:language>
  <cp:lastModifiedBy>ХХХ</cp:lastModifiedBy>
  <dcterms:modified xsi:type="dcterms:W3CDTF">2020-09-28T12:44:46Z</dcterms:modified>
  <cp:revision>116</cp:revision>
  <dc:subject/>
  <dc:title>ФИЗИОЛОГИЈА КРВИ</dc:title>
</cp:coreProperties>
</file>