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7E3A-0E54-4F0C-99EA-317C4A8BD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7B4B-595E-443B-A4F4-35B1F0D8CD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ECB-B890-4506-906E-6EBE0B99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E36-7776-4E40-A08C-8831A957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F0D-54FB-41A5-9C49-FD628504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093-E88D-45D1-8E78-CC68DCF7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88A-6969-4E68-B460-78B22D8E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03F-4520-467D-9DC3-C936542B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809-B0D1-4BAB-8BBC-86C5CC24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715-4C67-40CC-9E70-530375AC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117-DB4C-480B-B41E-940359A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FAB-77EB-427D-98B5-7ABCFAF3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680-A0F7-4CBF-AC57-02FF917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B43-AA3E-4FBB-92A3-FCF383D5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22FE-2C3A-405D-A5B4-92B257F9C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124000" y="177336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95280" y="2924280"/>
            <a:ext cx="82821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вежб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лога и место фармацеута у спортском тиму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Шта је неубичајено у овом пос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Лондону 2012. године је било 100 волонтера фармацеута који су радили у 6 апотека у Олимпијском пар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ло је више од 10 општинских апотека које су служиле спортистима у пет регионалних градова (Манчестер, Глазгов, Њукасл, Ковентри и Кардиф) током олимпијских фудбалских догађа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јало је више од 200 ординација за медицинске прегле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ремање леков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чамцима и другим пловилима (једрење и други водени спортов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анке за снег и хеликоптери (зимски спортов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Mark Stuart standing in front of the 2012 Olympics logo"/>
          <p:cNvPicPr/>
          <p:nvPr/>
        </p:nvPicPr>
        <p:blipFill>
          <a:blip r:embed="rId1"/>
          <a:stretch/>
        </p:blipFill>
        <p:spPr>
          <a:xfrm>
            <a:off x="2700360" y="4292640"/>
            <a:ext cx="33861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Шта је најтеже у овом пос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очавање са спортистима који су позитивни на забрањене леко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о се то догоди током игара, спортиста се обавештава чим се добију лабораторијски резулта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он тога следи званично саслушање и дисциплински поступ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итивни допинг тест утиче на професионалне каријере много љу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је разочаравајућа вест за земљу, породицу и друге чланове т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Још је трагичније када је спортиста позитиван на супстанцу коју је можда случајно узео - и даље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кционисан према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WADA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Ð ÐµÐ·ÑÐ»ÑÐ°Ñ ÑÐ»Ð¸ÐºÐ° Ð·Ð° doping kontrola"/>
          <p:cNvPicPr/>
          <p:nvPr/>
        </p:nvPicPr>
        <p:blipFill>
          <a:blip r:embed="rId1"/>
          <a:stretch/>
        </p:blipFill>
        <p:spPr>
          <a:xfrm>
            <a:off x="826920" y="4221000"/>
            <a:ext cx="3348360" cy="2376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Ð ÐµÐ·ÑÐ»ÑÐ°Ñ ÑÐ»Ð¸ÐºÐ° Ð·Ð° doping kontrola"/>
          <p:cNvPicPr/>
          <p:nvPr/>
        </p:nvPicPr>
        <p:blipFill>
          <a:blip r:embed="rId2"/>
          <a:srcRect l="29939" t="15701" r="0" b="14088"/>
          <a:stretch/>
        </p:blipFill>
        <p:spPr>
          <a:xfrm>
            <a:off x="4427640" y="4221000"/>
            <a:ext cx="3564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ји су савети за фармацеуте који желе да се баве овим посл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нтирање или рад у спортским клубов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ствовање у раду АДАС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та домаћим и међународним конгресима из ове темат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нтирање на међународним спортским такмичењима је прави начин да се неко укључи у спортску фармацију и анти-допинг контро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и фармацеути који су радили на неким Олимпијским играма настављају да раде и на следећи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Ð ÐµÐ·ÑÐ»ÑÐ°Ñ ÑÐ»Ð¸ÐºÐ° Ð·Ð° pharmacist in sport"/>
          <p:cNvPicPr/>
          <p:nvPr/>
        </p:nvPicPr>
        <p:blipFill>
          <a:blip r:embed="rId1"/>
          <a:stretch/>
        </p:blipFill>
        <p:spPr>
          <a:xfrm>
            <a:off x="1636560" y="4292640"/>
            <a:ext cx="5720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220464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ЕДУКАЦИЈА ЈЕ КЉУЧ УСПЕХА И ЗА ФАРМАЦЕУТЕ И ЗА СПОРТИСТ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Ð ÐµÐ·ÑÐ»ÑÐ°Ñ ÑÐ»Ð¸ÐºÐ° Ð·Ð° EDUCATION IS A KEY OF SUCCESS"/>
          <p:cNvPicPr/>
          <p:nvPr/>
        </p:nvPicPr>
        <p:blipFill>
          <a:blip r:embed="rId1"/>
          <a:stretch/>
        </p:blipFill>
        <p:spPr>
          <a:xfrm>
            <a:off x="2843280" y="3429000"/>
            <a:ext cx="34592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енералнe улогe фармацеута у спо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98864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етодавна и едукативна у превенцији доп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д у контролним лаборатор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авилно дизајнирање диј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мена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набдевање леко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аћење и анализа утицаја лекова на биохемијске и хематолошке парамет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24000" y="5516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*Рад у контролним лабораторијама: анализа материјала – сакупљањ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чување и припрема узорака, скрининг тестови, методе за квантитативну и квалитативну анали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ФАРМАЦЕУТА У СПОРТСКО-МЕДИЦИНСКОМ ТИМ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6999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ђење и контрола фармаколошке терапије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рола и примена суплемената код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рмаколошке мере превенције повр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штита спортиста од злоупотребе лекова и лековитих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ре антидопинг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начај фармацеута у савременом спо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267920"/>
            <a:ext cx="8362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ч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r Audrey Kinahan и Brendan Rochford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лас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ц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поте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alway’s University Late Night Pharmacy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рск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001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вој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гра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вебсајт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Eirpharm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аз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да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уж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орм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звоље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инстве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рвис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војен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рс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ве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eng. Irish Sports Counc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ј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007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300.00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 великог доприно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 Audrey Kinahan је прикључена W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Ð ÐµÐ·ÑÐ»ÑÐ°Ñ ÑÐ»Ð¸ÐºÐ° Ð·Ð° dr Audrey Kinahan Ð¸ Brendan Rochford"/>
          <p:cNvPicPr/>
          <p:nvPr/>
        </p:nvPicPr>
        <p:blipFill>
          <a:blip r:embed="rId1"/>
          <a:stretch/>
        </p:blipFill>
        <p:spPr>
          <a:xfrm>
            <a:off x="3059280" y="4365720"/>
            <a:ext cx="2338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ако је бити 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рмацеут н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импијским играм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каз случа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br>
              <a:rPr sz="2800"/>
            </a:b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искуство једног фармаце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новни подаци фармаце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арк Стјуарт (Велика Британиј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армацеут 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МОК-у (International Olympic Committe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Европском Олимпијском Комитет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European Olympic Committe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Светској Атнидопинг агенциј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orld Antidoping Agenc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Mark Stuart is the pharmacist for the International Olympic Committee (IOC) Medical Commission and European Olympic Committees (EOC) Medical and Anti-Doping Commission."/>
          <p:cNvPicPr/>
          <p:nvPr/>
        </p:nvPicPr>
        <p:blipFill>
          <a:blip r:embed="rId1"/>
          <a:stretch/>
        </p:blipFill>
        <p:spPr>
          <a:xfrm>
            <a:off x="4427640" y="3357720"/>
            <a:ext cx="41180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риј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кон завршених студија радио у агенцији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 злоупотребу лекова у спорту (Велика Британиј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00. Сиднеј Летње Олимпијске игре – фармацеут и антидопинг контр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04. Атина Летње Олимпијске игре – фармацеут и антидопинг контр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06. Турин Зимске Олимпијске игре – фармацеут и антидопинг контро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08. Пекинг Летње Олимпијске игре – фармацеут и антидопинг контр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12. Лондон Летње Олимпијске игре – управник локалне фармацеутске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14. Сочи Зимске Олимпијске игре – представник МО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16. Рио де Жанеиро Летње Олимпијске игре – представник МО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та је најинтересантније у овом посл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постављање бескомпромисних апотекарских услуга за спортске догађаје у разним земљ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ња о локалним законима и ланцима снабдевања у оквиру којих се могу дизајнирати фармацеутске услу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рмацеутске уредбе и апотекарска пракса се у великој мери разликују од земље до земље као и од такмичења до такмиче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имер: у Русији су закони и прописи о лековима различити од оних у Великој Британији, а увозни и царински захтеви за превоз лекова су такође различи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вање локалних начела фармаколошког збрињавања ургентних ситу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ја су задужења фармацеут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 Олимпијским игра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абир лекова (прек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0 леко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зајнирање просторија за допинг контро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постављање начела за рад апотекарске устано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укација фармацеута и других здравствених радника о употреби и злоупотреби лекова у спор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гледање и спровођење допинг тестирања (усаглашавање са правилима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WA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нтрола коришћења лекова са листе Изузећа за терапијску употребу (ТУ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та Рију 2015. године у циљу припрема за све наведене задат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Mark Stuart standing in front of the 2012 Olympics logo"/>
          <p:cNvPicPr/>
          <p:nvPr/>
        </p:nvPicPr>
        <p:blipFill>
          <a:blip r:embed="rId1"/>
          <a:stretch/>
        </p:blipFill>
        <p:spPr>
          <a:xfrm>
            <a:off x="2771640" y="4437000"/>
            <a:ext cx="338616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х</cp:lastModifiedBy>
  <dcterms:modified xsi:type="dcterms:W3CDTF">2018-09-24T07:18:23Z</dcterms:modified>
  <cp:revision>42</cp:revision>
  <dc:subject/>
  <dc:title>Демијелинизационе болести Мијастенија гравис</dc:title>
</cp:coreProperties>
</file>